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54822"/>
        <c:axId val="73021068"/>
      </c:barChart>
      <c:catAx>
        <c:axId val="57654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21068"/>
        <c:crosses val="autoZero"/>
        <c:auto val="1"/>
        <c:lblAlgn val="ctr"/>
        <c:lblOffset val="100"/>
        <c:noMultiLvlLbl val="0"/>
      </c:catAx>
      <c:valAx>
        <c:axId val="73021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54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481-6678-4B3F-B462-C5DD07B4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70B9-7540-405E-A18B-2438532F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E70-A77B-45DA-ADC7-6FB05C7A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2FF-CF7F-45FD-85E5-41035D8D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F66-7848-4766-B29A-EA5F0A48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564-1370-4462-8F98-CEC8B448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A0A-09A8-4E89-9AF9-3BBA53CC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A6F-373B-4E3D-B06F-033A9C20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8BB-874A-41A9-A80F-D046DC6F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E40-E0FA-49F0-9474-A743DE64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0B5-CFA9-44F9-8AF6-8A27AC60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2F3-18CC-406A-9F92-2F65DA4F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FAAF3-064A-4C45-82E9-70D77B3941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