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99926"/>
        <c:axId val="94105838"/>
      </c:barChart>
      <c:catAx>
        <c:axId val="36199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05838"/>
        <c:crosses val="autoZero"/>
        <c:auto val="1"/>
        <c:lblAlgn val="ctr"/>
        <c:lblOffset val="100"/>
        <c:noMultiLvlLbl val="0"/>
      </c:catAx>
      <c:valAx>
        <c:axId val="94105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9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A8A-8DEB-4EA5-905A-447A5D5D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BBC-EBDD-4AF4-94E9-CA6AD894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0EF-5AF0-43FA-9820-D8471EB1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261-BC27-4AD1-9264-5B7DE2BA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549-B134-4BDF-8403-54963995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B2F-749F-4202-B201-A00C4B13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B50-E1BD-4C89-AF03-A1C2D32A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253-0A6C-4CD1-835D-D06E4AA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C3B-5CB1-4970-A53E-2E1EADD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58A-AFA1-4AD2-ADF6-D14046A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C3D-1AF1-4381-9C04-60D73B0C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532-0167-46EA-A4E8-4E1A973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32163-43A5-4F47-AC89-E69771D0C4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