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95509"/>
        <c:axId val="69912892"/>
      </c:barChart>
      <c:catAx>
        <c:axId val="98795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2892"/>
        <c:crosses val="autoZero"/>
        <c:auto val="1"/>
        <c:lblAlgn val="ctr"/>
        <c:lblOffset val="100"/>
        <c:noMultiLvlLbl val="0"/>
      </c:catAx>
      <c:valAx>
        <c:axId val="69912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95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F3A-C22A-4BBD-8E08-2E0CC3D1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664-6630-4265-B0E6-56EB31BE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11D-A133-4F39-A6B3-6E3B0884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303-1703-45BB-9406-CEFA9002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961-CF45-4C79-9AAB-CF57082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D6E-D4B6-4591-AEF8-6F7A9E58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838-CDC4-4EED-9EE2-5E65502B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443-91F1-414F-A341-3B9901A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C51-3C7A-4CE7-B4F8-7DA3DDDD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770-673D-4E82-8419-1876A355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B31-52B5-4F6E-B5BC-39BD4AC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94D-57B5-4221-9BA9-536C05B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128DF-52B9-44CD-929B-E716BA351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