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24549"/>
        <c:axId val="14659778"/>
      </c:barChart>
      <c:catAx>
        <c:axId val="63124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59778"/>
        <c:crosses val="autoZero"/>
        <c:auto val="1"/>
        <c:lblAlgn val="ctr"/>
        <c:lblOffset val="100"/>
        <c:noMultiLvlLbl val="0"/>
      </c:catAx>
      <c:valAx>
        <c:axId val="14659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24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D3B-3437-4378-B0F8-61433040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825-4829-4E5E-84B3-B4EADF4D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C1C-B06A-42C1-9AD5-6EB54109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E25-B3FE-4EB1-9593-F6F2C93A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2D7-FBE4-46AB-BDCE-FFA29E3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42E-31BE-4281-B81D-C71FAA69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571-FAA5-465A-A9DE-8B45CAE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477-8B82-4259-BC7F-9BC1653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51A-03F4-41AB-A423-9858802B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A48-3CB6-46F7-AF1A-6846AD3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366-6852-4654-9C1D-5881AED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434-766E-4526-B493-5530689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07ACD-E65B-413C-BA36-93BBEFFD8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