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81484"/>
        <c:axId val="3790839"/>
      </c:barChart>
      <c:catAx>
        <c:axId val="10081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0839"/>
        <c:crosses val="autoZero"/>
        <c:auto val="1"/>
        <c:lblAlgn val="ctr"/>
        <c:lblOffset val="100"/>
        <c:noMultiLvlLbl val="0"/>
      </c:catAx>
      <c:valAx>
        <c:axId val="37908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81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5BD-5FE9-4B13-9CAE-3F888032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24D-D7F1-4D14-AFCC-7F5C01CC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0AF-5A4D-4360-8C10-E2A3FEA5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83A-5E69-4B89-A9FD-5BEE305B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08EE-0F7C-4C87-81BA-E9B31D63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58F-5321-42F2-AC27-21BDC753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114-6947-4065-9337-947190D6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0B4-D392-4070-BECA-7C61AC36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9673-D1C7-479D-96A1-28F42D29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7BF-FFF1-4A85-932B-7FCF7407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69C-96F1-47CF-B78D-1555231A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F75-EC2B-4CF4-8742-28D168D3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7A3CE-26A1-43C2-81BB-43B9C77AD7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