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39870"/>
        <c:axId val="48997720"/>
      </c:barChart>
      <c:catAx>
        <c:axId val="12239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7720"/>
        <c:crosses val="autoZero"/>
        <c:auto val="1"/>
        <c:lblAlgn val="ctr"/>
        <c:lblOffset val="100"/>
        <c:noMultiLvlLbl val="0"/>
      </c:catAx>
      <c:valAx>
        <c:axId val="4899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39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4D6-451C-49A4-AFF5-1600891A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0D6-6296-4822-A21D-18B987F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2DA-FA86-40C4-931A-F9C4C2B0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91C-DA0A-4B15-B811-79748D8D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0D3-4413-49C5-AEA0-8BDBC09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96D-7BC4-4A24-9DB0-F6091D9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D28-CD87-4485-9A75-3FD96E4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2BE-5865-41D7-8EED-C5935B63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E11-3DF3-4E80-BF65-2AAAFF53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2C2-4154-451A-8B60-E29D867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FF5-84DD-4A15-85E6-97B8B04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C62-4CF3-4207-BB3E-ACCE091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4F244-9FAB-46ED-9CB1-57893FA0F2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