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35078"/>
        <c:axId val="23211533"/>
      </c:barChart>
      <c:catAx>
        <c:axId val="86735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1533"/>
        <c:crosses val="autoZero"/>
        <c:auto val="1"/>
        <c:lblAlgn val="ctr"/>
        <c:lblOffset val="100"/>
        <c:noMultiLvlLbl val="0"/>
      </c:catAx>
      <c:valAx>
        <c:axId val="23211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35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FF3-8712-4F1A-A236-BFF04C9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96F-A015-45D0-A77B-145CF071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393-CDD3-4793-ADF4-0809449E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0D5-7F14-44BB-8D78-99890011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687-4DD1-484B-BD6C-6B09117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911-B2A0-40AC-9058-F028FEF7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1C9-6EA4-4051-8BC7-7C00AAD5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F1C-AFE9-473F-A622-9D075DC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3CE-9C58-4CB6-9AE9-FEC9BFD1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539-1235-4BBD-9A28-D1A4A8D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BBE-89E8-4D58-9A84-648E3EA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81E-2E87-406D-A55E-0DA657E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1F7F-D3CD-452D-BF25-7B725D95F0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