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31880"/>
        <c:axId val="8426995"/>
      </c:barChart>
      <c:catAx>
        <c:axId val="97631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995"/>
        <c:crosses val="autoZero"/>
        <c:auto val="1"/>
        <c:lblAlgn val="ctr"/>
        <c:lblOffset val="100"/>
        <c:noMultiLvlLbl val="0"/>
      </c:catAx>
      <c:valAx>
        <c:axId val="8426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31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E58-8945-4E72-860C-C39B0A8B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8EB-4EDD-4260-BB1F-CA29B979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A29-D3BB-4FCD-ABEA-662C606F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531-2424-47DE-8535-1FC5E5B7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CF1-C55B-4383-9EDD-4EAE804C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02E-CB4D-47DC-A187-42CC5FF9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E8F-363F-4F9F-8DBB-8FCF6F32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857-812F-4F89-A18D-9FCBDD4E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37F-4A46-45B3-A824-67DCD68E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335-453E-4FB5-A46F-81FB7A8E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126-890E-4484-814D-6A716B0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A78-E31E-448A-B39F-36C84C05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EED1C-C1FB-493F-A289-C8E77869F8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