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38917"/>
        <c:axId val="85040709"/>
      </c:barChart>
      <c:catAx>
        <c:axId val="69738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40709"/>
        <c:crosses val="autoZero"/>
        <c:auto val="1"/>
        <c:lblAlgn val="ctr"/>
        <c:lblOffset val="100"/>
        <c:noMultiLvlLbl val="0"/>
      </c:catAx>
      <c:valAx>
        <c:axId val="85040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38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96B-0170-42C6-BD35-A57D20D8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344-9B13-484E-B96C-4636B909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363-3FE1-4C2B-B162-08800393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228-F697-4410-A753-210F718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0C1-17B4-4CDD-B7DB-E21E44B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9A9-C68E-4E11-9771-135DF1AE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CCB-9F62-40B4-8695-1A38058E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E4D-2CA9-4152-9917-64C56D34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59E-0AD0-4EB1-AB6F-F4BA7E4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84F-8641-4F67-8B22-943692E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7B6-D0F9-42C6-8B30-CF29FC7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914-6D53-44E4-80D9-E473B88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D03A-B06F-4645-B426-947EBD8A3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