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10262"/>
        <c:axId val="90704134"/>
      </c:barChart>
      <c:catAx>
        <c:axId val="38310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04134"/>
        <c:crosses val="autoZero"/>
        <c:auto val="1"/>
        <c:lblAlgn val="ctr"/>
        <c:lblOffset val="100"/>
        <c:noMultiLvlLbl val="0"/>
      </c:catAx>
      <c:valAx>
        <c:axId val="90704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10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9A55-6482-474C-A55C-801D30FF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025D-4F2B-4335-9AF9-5027B414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949-0742-42FC-8A77-16699663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301-403B-425C-B2AB-B0E960B5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59B-5307-4CC9-9AF8-6F01DEB3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C3A9-329D-4A38-B4C5-DC41BAF6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C23-6D61-46FE-9DE5-B271585F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3BF-9FE9-4577-BDEF-B0F7D24B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60C-CEF9-48D4-988B-B28CADAC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9CE-9C46-4275-939F-F0165683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4AB-3AD8-4F36-9E6B-A20F1307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F063-FF08-4B4A-9EEF-E896A2A6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4795B-00FA-41D3-9312-73B7F6C140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