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31818"/>
        <c:axId val="83041663"/>
      </c:barChart>
      <c:catAx>
        <c:axId val="43031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41663"/>
        <c:crosses val="autoZero"/>
        <c:auto val="1"/>
        <c:lblAlgn val="ctr"/>
        <c:lblOffset val="100"/>
        <c:noMultiLvlLbl val="0"/>
      </c:catAx>
      <c:valAx>
        <c:axId val="83041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31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3A04-06BE-4366-B3CF-1806735E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2AE-9A31-4B82-9EE8-79338813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27B-1008-41DA-85DB-03121B07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319-0FDB-408A-82A3-6832BAD1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D64-9E96-4DF6-8899-EECB6522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14B8-C82E-41C5-9270-C1DC8D99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E0B4-51DD-4734-94A1-7AA482F8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2A2-CA0B-4611-B429-5062017E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B1E2-F038-4D1A-A34F-E4C71E01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070-8E5F-4FE1-B4EF-1D4FB885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235-F016-428C-A7ED-ACAA0879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183-C3FF-4988-A6B9-44C76189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760E6-7785-4C33-BA70-99E1302E4C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