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05383"/>
        <c:axId val="28499649"/>
      </c:barChart>
      <c:catAx>
        <c:axId val="36305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99649"/>
        <c:crosses val="autoZero"/>
        <c:auto val="1"/>
        <c:lblAlgn val="ctr"/>
        <c:lblOffset val="100"/>
        <c:noMultiLvlLbl val="0"/>
      </c:catAx>
      <c:valAx>
        <c:axId val="28499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05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552-7108-4C2A-8A4B-F6D48AEE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CB8-6000-411D-B9F7-DF62918B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EDF-F8B0-4DFC-A190-70BAD0F4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F1D-6763-4C44-9C57-B7DA8A77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5C1-75A8-417D-B6E8-34C648CC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E6F-4C1D-4CAF-AE01-98F1F769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EEF-FF01-47BF-9761-C5F7A823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076-D01C-4FEE-ACB7-40090835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87D-3C68-480F-89F6-ED31E433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9C8-6400-4847-93C8-4AC56C0F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29E-5DFB-41F8-AC3E-29809157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4E7-EC1B-4C76-B55E-421F97AA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84DF3-9450-4A50-BB70-20B582F474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