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9752"/>
        <c:axId val="36394693"/>
      </c:barChart>
      <c:catAx>
        <c:axId val="13139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94693"/>
        <c:crosses val="autoZero"/>
        <c:auto val="1"/>
        <c:lblAlgn val="ctr"/>
        <c:lblOffset val="100"/>
        <c:noMultiLvlLbl val="0"/>
      </c:catAx>
      <c:valAx>
        <c:axId val="36394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9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F35-2F9E-400A-A2AB-CD9D80D2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D5D-629C-4236-9AB5-D98F92B4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273-805F-4B31-AB43-D9CB12B5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5C4-7EBE-4719-B3CA-DDFBFD9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056-9C38-4C74-A6F0-F01EFBA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A14-645F-48DC-9627-6A2DE2A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C03-14A4-4254-9ED7-58DDF2A7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CE3-7EE5-47E4-99A9-7DD3A54C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00E-B30B-4E5E-A740-60768B76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BA2-F0E3-4783-8069-262158E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121-EE36-475A-A87C-CEDF86AA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962-7EFE-4D7C-90EC-9076446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2D2F1-3FA1-468B-A68A-F052C9F681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