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72139"/>
        <c:axId val="21903819"/>
      </c:barChart>
      <c:catAx>
        <c:axId val="19872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03819"/>
        <c:crosses val="autoZero"/>
        <c:auto val="1"/>
        <c:lblAlgn val="ctr"/>
        <c:lblOffset val="100"/>
        <c:noMultiLvlLbl val="0"/>
      </c:catAx>
      <c:valAx>
        <c:axId val="21903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72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4A7-0707-423D-AF82-CBA91A07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6EE-6CD2-47A9-A79E-A3E3CBF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188-FD54-4308-8CD7-75C2E64D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6EA-7F93-4D3B-AABE-430B607E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6FE-CD3B-4C32-9FD1-FA9F20FE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5BA-7797-47C5-892A-DEECDC2B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7BA-CE64-4644-97FE-58447360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8D4-AE35-4F81-A225-02874A12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B68-D423-4B17-9E11-BB3FA473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10D-CB76-4780-9EF2-68D718C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54C-A8B4-419C-BC96-2D3AC01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69F-FCA7-4A38-8E72-112FFBE1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1CB95-D2C4-4E6F-82B9-6F6D531FE3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