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57074"/>
        <c:axId val="66654136"/>
      </c:barChart>
      <c:catAx>
        <c:axId val="95957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54136"/>
        <c:crosses val="autoZero"/>
        <c:auto val="1"/>
        <c:lblAlgn val="ctr"/>
        <c:lblOffset val="100"/>
        <c:noMultiLvlLbl val="0"/>
      </c:catAx>
      <c:valAx>
        <c:axId val="666541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57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89D0-A6EE-488A-9756-2E87EE37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A40A-6F0D-4C03-A1F6-1DB23E29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564E-C2B9-4259-AF4D-728C8B9D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BF9F-F334-49C2-9F76-0E0B0940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C18E-5BFB-4743-A467-EBA1121C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039-00C7-475B-981C-B46C5561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D4E-67DF-4CF6-92CB-84F71DB9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5F1-442A-4AE8-BF29-6BA4E64F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2C7-29EC-41EB-9806-57C11AFE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E835-4065-4191-8141-5EEE7184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FA3-0FF5-46A5-B3E9-84CCBEA0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956-84F5-4901-AA2E-2E136DEA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58C74-3DC4-45BB-97E9-9B8DC1FA17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