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26218"/>
        <c:axId val="40999363"/>
      </c:barChart>
      <c:catAx>
        <c:axId val="15026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9363"/>
        <c:crosses val="autoZero"/>
        <c:auto val="1"/>
        <c:lblAlgn val="ctr"/>
        <c:lblOffset val="100"/>
        <c:noMultiLvlLbl val="0"/>
      </c:catAx>
      <c:valAx>
        <c:axId val="40999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26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A68-819D-4DD6-BB0B-201274C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BB0-6061-40C9-860D-DDB3B50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3EB-249B-426D-8F2B-22642B7B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4C3-757C-4222-B10D-09E266B8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D8F-C2AA-4C34-9B64-B2AB53DE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576-06C6-4943-AA9C-3CBACA69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10F-475A-4169-A7D9-19F20D3A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682-4A1B-4695-9BE4-F243173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B72-49A3-4C8E-A874-A3A0483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560-34A7-4C53-AD10-CC42A5F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782-3D8A-4789-B244-C076FBE7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541-BE14-4961-AF9F-CAFC85C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37DE-2F97-447D-A98A-39FD2185DB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