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51440"/>
        <c:axId val="8391439"/>
      </c:barChart>
      <c:catAx>
        <c:axId val="7275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439"/>
        <c:crosses val="autoZero"/>
        <c:auto val="1"/>
        <c:lblAlgn val="ctr"/>
        <c:lblOffset val="100"/>
        <c:noMultiLvlLbl val="0"/>
      </c:catAx>
      <c:valAx>
        <c:axId val="8391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5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2BA-08C7-4CB2-9F40-079CC35E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65F-81BE-4E1B-A5A1-D06C9455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308-CE03-44A9-AC59-A8D63188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B2A-4544-4798-9BE3-D93C561B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4E4-2D31-458D-A23D-4589D83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D8B-D1E1-4DD0-AA97-44FFED1A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617-D0FD-4AAC-BBE8-E7C792D8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96A-CEAE-41E6-B3D6-45ED013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601-C314-4007-94C3-39EC0B69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676-6F58-406F-A5A5-52D2089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49B-9379-4536-96C0-60F1DC1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1C5-4EF3-4415-9959-9945D5B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42362-E099-4998-88E5-D23A5E5D8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