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42338"/>
        <c:axId val="13375882"/>
      </c:barChart>
      <c:catAx>
        <c:axId val="67242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75882"/>
        <c:crosses val="autoZero"/>
        <c:auto val="1"/>
        <c:lblAlgn val="ctr"/>
        <c:lblOffset val="100"/>
        <c:noMultiLvlLbl val="0"/>
      </c:catAx>
      <c:valAx>
        <c:axId val="13375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42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479-62B6-4F5B-BF5D-45FF2739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12D-EB55-4FC8-B260-9CA09E58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B11-A12C-4C07-BF39-28C93F87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DED-C6F2-450C-8A09-01204A92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EB4-BE88-4397-846D-F7B8C984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BD2-A400-493D-9495-640346C2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38E-8E99-4F83-986C-596742A3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AFE-6191-449F-ABE5-10BE8528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E759-D5A0-423F-AE30-4CB0AA95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91DF-D06D-4ACF-A8BF-92831D79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7FD-237B-4982-AF5F-C3AD200C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444-6261-46F8-99BA-2102E93F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4D15D-90F0-49C9-A1A4-8D4F58AD34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