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17356"/>
        <c:axId val="4999039"/>
      </c:barChart>
      <c:catAx>
        <c:axId val="49173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9039"/>
        <c:crosses val="autoZero"/>
        <c:auto val="1"/>
        <c:lblAlgn val="ctr"/>
        <c:lblOffset val="100"/>
        <c:noMultiLvlLbl val="0"/>
      </c:catAx>
      <c:valAx>
        <c:axId val="49990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73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0D58-E298-4D91-BC4F-B0B069237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07B4-E1EB-4B56-8425-174227F6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73CD-7C4C-43B4-BA41-A3BD2481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14EA-558D-4C53-96C6-BDC69BCC5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E73D-DA1F-40BE-8554-DC9D1D5D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A59C-E9C0-4BC2-A898-DC99BA0A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FEA2-6B2C-444E-9954-48E16333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8644-9999-46EF-91D2-E42D30A1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6405-6850-43E1-BCF1-7949252E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447D-6BDD-4B77-9681-184B220F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F6D3-24A7-4A8D-AC1E-8FDBED73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F947-EF4B-4EBE-B72E-CFA684C0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B44C8-E333-49D2-AD89-05F03170F0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