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9678461"/>
        <c:axId val="23327846"/>
      </c:barChart>
      <c:catAx>
        <c:axId val="1967846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327846"/>
        <c:crosses val="autoZero"/>
        <c:auto val="1"/>
        <c:lblAlgn val="ctr"/>
        <c:lblOffset val="100"/>
        <c:noMultiLvlLbl val="0"/>
      </c:catAx>
      <c:valAx>
        <c:axId val="2332784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67846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D00D-B5EF-40B4-947A-2869730A3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FE6D-41CF-4972-A6AB-A2F8D0F8B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35EB-1C82-4400-AB79-33D13B550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93D3-0736-4B93-AFAE-02BD169FF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F3A6-DA6F-40CD-BA5B-78A862AD7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27CC-0503-47E3-A9D3-F8E315F9D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0126-6480-441C-9EE4-AF22674D7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8652-FB76-495B-AF3C-4048CE960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7BE1-8749-4ACC-95DB-E34D7C33A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EF41-9EBC-495F-863D-0D9F45CF3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F487-735D-49B9-A241-B5BD55113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5365-50AE-4E04-B14B-E285FD855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33AEDD-A10E-470E-825C-965A7CB0A7F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