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6294"/>
        <c:axId val="94861842"/>
      </c:barChart>
      <c:catAx>
        <c:axId val="1026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61842"/>
        <c:crosses val="autoZero"/>
        <c:auto val="1"/>
        <c:lblAlgn val="ctr"/>
        <c:lblOffset val="100"/>
        <c:noMultiLvlLbl val="0"/>
      </c:catAx>
      <c:valAx>
        <c:axId val="94861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6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3BD-3EE2-405E-92A6-248BBFD0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910-D49A-4715-B9D6-3461F27A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716-00D3-4325-9378-CA1D38A4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DB0-1AA5-48EA-91F5-264837E5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817-78AF-4C74-8023-A71DB492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ABE-5E11-49AB-90A7-C1D72DE0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690-89C6-4516-9CA1-F03DB2AF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978-55C6-4693-9A98-6FB2F672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5DA3-566C-4FAA-AF6A-B2F65243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E99-760B-46AC-912C-B3624D94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DEE-8845-4ED4-9D50-F099F27C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A3A-BD23-4ABB-8C7D-87C3CBE8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795A6-78BC-42CB-9F4F-895C2FC2CE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