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71218"/>
        <c:axId val="49242476"/>
      </c:barChart>
      <c:catAx>
        <c:axId val="39971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42476"/>
        <c:crosses val="autoZero"/>
        <c:auto val="1"/>
        <c:lblAlgn val="ctr"/>
        <c:lblOffset val="100"/>
        <c:noMultiLvlLbl val="0"/>
      </c:catAx>
      <c:valAx>
        <c:axId val="49242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71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7F0-E2AC-4A4A-9D80-6E3200B0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165-C6C2-4579-BBEC-C7131655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700-EA9D-42B4-9FB3-5E50CDB9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CE1-77BB-4332-918D-C8A7E6A5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8C8-E6F7-4344-A8D1-B9B2F670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057-51DE-48A6-851E-A1420994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0E3-5669-42F1-9FDC-2BE3C959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129-42BA-4C6B-B510-818E639F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BC6-793B-4B43-BC16-3CB4909B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BD8-7978-4397-A8B7-CD1C7CE9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AB7-ABC6-4E21-AB7C-2239A6D3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E26-B98E-495B-9BC1-7D03FBC3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2CDEE-E199-40AA-8BA3-41BE8B4D09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