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958482"/>
        <c:axId val="36783740"/>
      </c:barChart>
      <c:catAx>
        <c:axId val="859584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83740"/>
        <c:crosses val="autoZero"/>
        <c:auto val="1"/>
        <c:lblAlgn val="ctr"/>
        <c:lblOffset val="100"/>
        <c:noMultiLvlLbl val="0"/>
      </c:catAx>
      <c:valAx>
        <c:axId val="367837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9584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A98E-9166-4549-AD7A-B5D9B592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8A3E-12D9-47CF-A472-A05C4217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1384-B143-42E4-80E5-417BF230E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634C-F8BF-4F6A-855C-FF5A23B9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07FF-CFD2-4A77-9793-631C4CFA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57B4-C4F4-447A-AC7E-155FD9A8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B762-309F-4948-AC38-DF4917BA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3BB4-3C06-4825-951A-8FDD6B78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8247-73D9-407B-8A8A-11226B65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1860-7B37-44BC-A9B1-8AF282EC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4437-54B8-4D98-8C14-BC642C5D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9695-2262-424F-BBC7-F86D9BDE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D2E9C-E91D-48BF-9B80-077192DE5A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