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70504"/>
        <c:axId val="94486105"/>
      </c:barChart>
      <c:catAx>
        <c:axId val="70070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6105"/>
        <c:crosses val="autoZero"/>
        <c:auto val="1"/>
        <c:lblAlgn val="ctr"/>
        <c:lblOffset val="100"/>
        <c:noMultiLvlLbl val="0"/>
      </c:catAx>
      <c:valAx>
        <c:axId val="94486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0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A59-FC80-44B8-9874-C111526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BE4-54A2-43C8-8405-F45FC9FD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2C5-370F-4D54-A152-F3C724E1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EB7-8A0A-441F-84F3-AF0B46E3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6E0-DE1A-4B00-876E-EC53B77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640-F409-41C2-855C-E41E6AE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386-2D48-43A6-8C69-730F176D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1A7-3CBF-47C0-AFC5-584A92D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335-80DE-43B9-B27C-36B428B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B47-14A7-4D15-872D-88ACB85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428-D1B3-446A-8B61-D833E22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FEB-934E-4A3D-8226-25CE8C1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33BD-F288-4459-AD03-82C06BFE02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