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28343"/>
        <c:axId val="53461542"/>
      </c:barChart>
      <c:catAx>
        <c:axId val="92528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61542"/>
        <c:crosses val="autoZero"/>
        <c:auto val="1"/>
        <c:lblAlgn val="ctr"/>
        <c:lblOffset val="100"/>
        <c:noMultiLvlLbl val="0"/>
      </c:catAx>
      <c:valAx>
        <c:axId val="53461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28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163-050F-4DF0-BBD4-4D6450CD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053-696A-4E98-AE78-FBBBDA01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A52-04AF-43FB-82BC-72C680CA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11A-D9FA-4685-8FFF-4080693C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F2E-A40E-45D5-96BE-70016AEF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CE7-FDD6-43E0-BBE9-A621CABE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A77-001A-4BBB-82B4-D12E587F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E3D-260B-46DC-8DDB-DB315B66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F4A-4494-404F-9DE5-3609DAF0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65F-50AE-42FB-9241-7648FEF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644-9D48-4AB4-A823-36732D5A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763-E2E1-4BC1-9613-3137E365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3856D-AA5A-4E7E-8A10-5C982DA1E1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