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8825116"/>
        <c:axId val="12199058"/>
      </c:barChart>
      <c:catAx>
        <c:axId val="8882511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199058"/>
        <c:crosses val="autoZero"/>
        <c:auto val="1"/>
        <c:lblAlgn val="ctr"/>
        <c:lblOffset val="100"/>
        <c:noMultiLvlLbl val="0"/>
      </c:catAx>
      <c:valAx>
        <c:axId val="1219905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82511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92FE-16F7-47E7-A80D-5E879FBD1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495E-9765-46B8-839B-8386FFBD7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E01D-6CDC-4B2D-9071-2C74AB67A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E068-BE4C-4F64-9483-0E7C5F73B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4FC3-EF8A-49B2-A650-401E2A5D8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3030-EDE4-4131-835E-79480100A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D3D5-1309-4A94-B53E-84B06598C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5D33-4DAE-41E9-AD24-FAC683B2C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9701-EF71-40F7-8613-B4B4F3DB4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0260-891B-4285-B8CA-1459AC0B9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6844-36BA-4B4D-BF13-5FBE1BFEB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9F1E-C543-4229-B3FA-556B71B0F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C2A92F-0D31-4063-9A08-14077C1E0A3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