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142430"/>
        <c:axId val="54612180"/>
      </c:barChart>
      <c:catAx>
        <c:axId val="971424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12180"/>
        <c:crosses val="autoZero"/>
        <c:auto val="1"/>
        <c:lblAlgn val="ctr"/>
        <c:lblOffset val="100"/>
        <c:noMultiLvlLbl val="0"/>
      </c:catAx>
      <c:valAx>
        <c:axId val="546121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424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A2B3-E442-4F11-9ECA-AE421D88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6AF9-CF38-47AA-A0DD-57F6F422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3621-C42E-4F79-A016-7A9F57597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A57F-F795-4095-B792-5192F8A82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2AB5-0CDB-4C8C-B3DE-9107F2D6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4460-80DA-4409-82DB-35B83CB1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78BC-03F0-447B-88E1-CFB8300A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449C-602E-49DF-B630-3D5235D6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D65F-51BA-456C-98DB-A6DB41F8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88D4-AC48-4668-AE7F-979E758C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B342-EB7E-4743-98AE-AD42AED1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9A49-2407-4662-89EC-C90D2A47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FEFCBA-023B-400E-9F4C-6E121FECBF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