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9582"/>
        <c:axId val="22893642"/>
      </c:barChart>
      <c:catAx>
        <c:axId val="18449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93642"/>
        <c:crosses val="autoZero"/>
        <c:auto val="1"/>
        <c:lblAlgn val="ctr"/>
        <c:lblOffset val="100"/>
        <c:noMultiLvlLbl val="0"/>
      </c:catAx>
      <c:valAx>
        <c:axId val="22893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9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73E-09EF-419A-8E5B-D7CAD767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42C-6CE2-4CF0-91FE-85165D8B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F11-EFD9-4BA5-86AA-E0634EFB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6C5-5015-4C7F-9B1B-0A33EDF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B54-AE4C-48B9-96F3-E80A9A9E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303-67F8-4BF4-B3B3-B8A8668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DFC-21D9-4C5E-B7E1-D0779242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CC8-47BB-487F-82A3-89F7EC7A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6A8-4523-4671-BED5-D445F1AA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70-47B8-4360-9B52-E24276D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AEB-18CF-4642-BE45-A156412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615-C0C5-4AF9-ABD0-8A9E6C8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12B4-244A-4184-88ED-8D4ADF47C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