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715449"/>
        <c:axId val="83006804"/>
      </c:barChart>
      <c:catAx>
        <c:axId val="15715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06804"/>
        <c:crosses val="autoZero"/>
        <c:auto val="1"/>
        <c:lblAlgn val="ctr"/>
        <c:lblOffset val="100"/>
        <c:noMultiLvlLbl val="0"/>
      </c:catAx>
      <c:valAx>
        <c:axId val="83006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15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956-0A49-4BC0-B64E-41840577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9910-1C8F-4FFF-B7BB-3C516274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8FE5-CE0A-4BF8-B9FF-BDA7A5BB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382E-F3F8-490F-A756-C27D40FE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6E25-94E4-414C-9D5A-4AB53359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E473-7222-4C19-ADFD-916ED6B9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007-2C5C-4EE3-A30C-8668EC02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5703-190B-40F5-B3D5-102886BD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4CF2-50D4-465E-BDD7-056CDF4E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C86B-6068-4963-A152-44BEE1C8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2865-8A76-4737-9C85-CEDCCDC8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F54-D559-43C5-942B-E0C3DC82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FDD23-4DE6-4B8A-B3CD-2B65BD671A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