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17313"/>
        <c:axId val="42747716"/>
      </c:barChart>
      <c:catAx>
        <c:axId val="47717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47716"/>
        <c:crosses val="autoZero"/>
        <c:auto val="1"/>
        <c:lblAlgn val="ctr"/>
        <c:lblOffset val="100"/>
        <c:noMultiLvlLbl val="0"/>
      </c:catAx>
      <c:valAx>
        <c:axId val="42747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17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B3B-584A-40B1-8F4A-998CDED9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2DE-A752-4E1F-8886-A2EAD49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496-4797-458F-9FA3-63ADBEBA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650-E2DF-477B-9F3B-2F0F0E1E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28D-6B59-433D-BAA0-10D1E7E7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E64-8374-42E6-8220-986CBA10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A4F-C598-410A-AB75-C66ABF7D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447-1CA9-46C8-8219-9F061FF2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201-70C6-4EDF-BA64-1A9DC1F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06E-18D2-4482-99FB-5F07CB2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7ED-2EC3-4540-B6F3-3735D53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F51-998E-4E9F-9354-2E2ABB8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9DECB-031B-43F5-9F10-707BD74676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