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871618"/>
        <c:axId val="10604407"/>
      </c:barChart>
      <c:catAx>
        <c:axId val="46871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04407"/>
        <c:crosses val="autoZero"/>
        <c:auto val="1"/>
        <c:lblAlgn val="ctr"/>
        <c:lblOffset val="100"/>
        <c:noMultiLvlLbl val="0"/>
      </c:catAx>
      <c:valAx>
        <c:axId val="106044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71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EDB8-80F0-4FB6-B114-04B7E253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96F1-E145-45BA-9E32-B34222F5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BB0C-E8B9-430C-BC6A-E4253EC18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357-4CA2-4576-86ED-2C0277EE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CB7-D149-4B52-B9B4-8708BBFF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D8DA-1328-40FE-B395-7379682B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8429-0D6A-4DDA-B867-690230E6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99BA-6CEA-4BD9-B2B1-83BC57E8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D12F-6152-42B9-8C1C-4286B6E8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1505-B4A8-4C06-A7AE-DE6D6D56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BB4-A3B0-4485-A497-7D1BA327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5451-333C-41D8-9943-7C5A5A72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F7DD0-745D-44D1-8D1F-BBEC3A32EE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