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86970"/>
        <c:axId val="71054767"/>
      </c:barChart>
      <c:catAx>
        <c:axId val="23886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54767"/>
        <c:crosses val="autoZero"/>
        <c:auto val="1"/>
        <c:lblAlgn val="ctr"/>
        <c:lblOffset val="100"/>
        <c:noMultiLvlLbl val="0"/>
      </c:catAx>
      <c:valAx>
        <c:axId val="71054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86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35CE-221D-4D2B-82E2-0B17564BB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EAD-D200-4EBE-94D5-7AB6897E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46C-A51D-434E-BC76-F4AAB8120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538-7003-48BB-8050-5F7FF9A93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B03-45AB-4459-956F-44DB79AA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6E36-D018-40CE-AD84-8C0C85EA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3E6-5C06-438A-91A9-29378574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54C-6B42-4AC6-96F9-3278ACFF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9F6-BBC6-4909-9915-4201E8DC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84D-BF05-487A-9755-080123F0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B55-70E5-4944-8B03-D71EED8B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4B89-9933-4B68-9603-93CE11FD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6F5E27-FBFF-40BA-AE21-8FC1225DEC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