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771234"/>
        <c:axId val="96433944"/>
      </c:barChart>
      <c:catAx>
        <c:axId val="767712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33944"/>
        <c:crosses val="autoZero"/>
        <c:auto val="1"/>
        <c:lblAlgn val="ctr"/>
        <c:lblOffset val="100"/>
        <c:noMultiLvlLbl val="0"/>
      </c:catAx>
      <c:valAx>
        <c:axId val="964339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7712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5FFF-68EF-4583-83A5-7C4308E59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52FE4-95B7-4564-8076-60AE8B03E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37A4-F27F-4B26-81C1-C749AC9D2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40350-593F-486B-BD42-128DF931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B906-EE1C-4EC4-A8D7-C303DDA3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1712C-E9E1-4E06-8194-0038DFE7A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4A595-CBE1-400D-9835-30F06BFE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5E03-CE11-4166-B675-8A7E69F9E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7E64-F017-4CDC-8BED-1BACF73C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4D3-EF30-4711-994D-C457E011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63F0-B13F-4F78-A08B-2E9E42D8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6ACA-452C-41EC-B1A9-E7875BDB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D595D-5D1D-410B-ABD4-B43AEAB5C6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