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85776"/>
        <c:axId val="4498858"/>
      </c:barChart>
      <c:catAx>
        <c:axId val="221857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8858"/>
        <c:crosses val="autoZero"/>
        <c:auto val="1"/>
        <c:lblAlgn val="ctr"/>
        <c:lblOffset val="100"/>
        <c:noMultiLvlLbl val="0"/>
      </c:catAx>
      <c:valAx>
        <c:axId val="44988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857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9D0-6EF6-490D-9F23-E6ADFAF9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6993-8D0A-4CAA-9ADE-BD3BB79F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FD8F-1D22-4607-BBCC-24423240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866B-568F-4628-8A2D-8CE026E3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E4E-D92D-4B3E-A1CC-C0C6AD3D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875-5ED0-4E78-9005-C39A3704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7B8D-A799-4CA2-8DE6-7716662A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E228-839F-4546-B273-A29CE307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57AE-E2B3-40E8-8AE9-26E04F98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8A5-BA53-4B90-AC28-381AE80E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2E7-DDE3-41A2-B3D1-E328C65C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97F9-4DC2-4C49-9F74-F8D55A91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D4A09-83CA-4FAD-94AD-A323E0171B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