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588287"/>
        <c:axId val="66201165"/>
      </c:barChart>
      <c:catAx>
        <c:axId val="195882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01165"/>
        <c:crosses val="autoZero"/>
        <c:auto val="1"/>
        <c:lblAlgn val="ctr"/>
        <c:lblOffset val="100"/>
        <c:noMultiLvlLbl val="0"/>
      </c:catAx>
      <c:valAx>
        <c:axId val="662011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882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5F35-0EF7-44E6-9086-946DE7BE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3E1D-79F9-46FC-97C5-5A6F0762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9CCC-7E89-4211-90F6-043749392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CA3A-7DC3-4282-8639-AF87D762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9C5A-127D-40D9-9385-8C4E5142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C03A-1408-4F9C-B346-E3FDB7B2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C376-A415-47A7-8D19-86BF3E18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B796-25C9-4C9B-80E0-4B4B4D0D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8837-7EE6-4471-9DE7-57E2063B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A815-37EB-4A7E-ACCC-C6C771DB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8B06-4ECB-415B-B78F-CD5A21D8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6A1D-8F69-465A-947F-E70DBB74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3182C-214F-465A-828A-AD263BB47A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