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54077"/>
        <c:axId val="74817218"/>
      </c:barChart>
      <c:catAx>
        <c:axId val="25054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17218"/>
        <c:crosses val="autoZero"/>
        <c:auto val="1"/>
        <c:lblAlgn val="ctr"/>
        <c:lblOffset val="100"/>
        <c:noMultiLvlLbl val="0"/>
      </c:catAx>
      <c:valAx>
        <c:axId val="74817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54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A36-DA60-46E1-8643-7B9617F1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16BB-3980-4393-B6D3-D54B2143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0B2-5361-4015-AC07-04C1E004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9CD-B4F1-44BB-ABC0-DD0EF789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CAAB-0810-45D1-A42B-2BC31E7B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BE6-749E-457F-A43E-CD26D663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C6CF-86F2-4D52-B8C5-F7C5EC13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A5D-207F-4D95-B9F3-25136142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6CAD-9160-4185-948E-507CCE40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EAF-1D69-49B6-8A23-B84EB5AD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9E0-45F8-4FDD-B81A-F11B8867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3F6-3920-4FBD-A3C4-51F8ECCC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460A0-052A-4DDD-9814-C9C4EB1EF6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