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98009"/>
        <c:axId val="7180850"/>
      </c:barChart>
      <c:catAx>
        <c:axId val="92980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80850"/>
        <c:crosses val="autoZero"/>
        <c:auto val="1"/>
        <c:lblAlgn val="ctr"/>
        <c:lblOffset val="100"/>
        <c:noMultiLvlLbl val="0"/>
      </c:catAx>
      <c:valAx>
        <c:axId val="71808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980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D6F5-702A-4A81-9658-75872E510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8910-AB8F-496C-932E-B4E4ED6C7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25BF-BB08-44F3-B8E5-2448B83D7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F4DF-1139-4A24-8308-805FEAB57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C740-4DCA-484F-B63D-16D01A766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152F-A46E-4A69-9EBC-A5A2EC31F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9CEA-7129-48CF-9704-42771EE16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0092-5CD2-485E-9B79-214E6B3F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2907-635D-42CF-8551-F422C150A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EE43-E657-4E39-8560-2A483D55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F4B8-A14C-437B-B170-B4E64AF2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1F08-1D14-4CE9-9FD8-98BEDC35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37335C-BB16-422C-8274-ACBFC571BE6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