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610000"/>
        <c:axId val="13433711"/>
      </c:barChart>
      <c:catAx>
        <c:axId val="736100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33711"/>
        <c:crosses val="autoZero"/>
        <c:auto val="1"/>
        <c:lblAlgn val="ctr"/>
        <c:lblOffset val="100"/>
        <c:noMultiLvlLbl val="0"/>
      </c:catAx>
      <c:valAx>
        <c:axId val="134337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6100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4BF3-996A-4743-A355-3346AC94C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542B-4F5F-41C4-97F7-608E082B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E22D-1442-44E1-A812-F6E277D98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FB1E-2047-451F-8673-A1423723C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0EF2-3A84-4CAC-B3B9-92089C9D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D9A2-D09C-4276-9764-40F84A59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C1F1-D39A-41FD-A167-91C88DBE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E443-31EB-4FA7-A0A4-EB0388DF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E81E-C7B9-4C33-B1C0-9D53E3D8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3D1F-7ED0-43D8-B857-BA936C63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90A9-5732-4D2B-BEBC-8657B3C3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B112-7DC6-4F1D-875D-813A19B7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C1A03-2BEF-4223-8B20-98643E01B5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