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3299637"/>
        <c:axId val="93260984"/>
      </c:barChart>
      <c:catAx>
        <c:axId val="2329963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260984"/>
        <c:crosses val="autoZero"/>
        <c:auto val="1"/>
        <c:lblAlgn val="ctr"/>
        <c:lblOffset val="100"/>
        <c:noMultiLvlLbl val="0"/>
      </c:catAx>
      <c:valAx>
        <c:axId val="9326098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29963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B27E0-C66F-4EC4-BDEE-2DCE2ED3B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F4A81-8ABD-401B-862E-D38AA1761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380E7-E8FE-4E09-9484-0D2A33B95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DBD83-EE74-4B18-8F7B-1579AB18F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FC052-C392-48E9-8F41-77866796B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87B00-A76E-467C-829E-BF3E2D50E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3E186-76A4-468F-899C-95A117A07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03D66-8F69-4A14-9E29-52759F315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00B9F-8879-46D2-A71F-E204F418A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9E9D7-EA61-4B56-81D5-ED8EF0977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F389F-A71A-48DB-B145-79FA09F12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7A806-C0C6-4E54-95DC-E04E9FBB1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3A92A7-558B-4A7A-B31A-9BD0E3DBF5D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