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05742"/>
        <c:axId val="19613573"/>
      </c:barChart>
      <c:catAx>
        <c:axId val="158057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13573"/>
        <c:crosses val="autoZero"/>
        <c:auto val="1"/>
        <c:lblAlgn val="ctr"/>
        <c:lblOffset val="100"/>
        <c:noMultiLvlLbl val="0"/>
      </c:catAx>
      <c:valAx>
        <c:axId val="196135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057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68B-E279-4F5F-BC16-80406080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56A-38A9-4241-8079-C8AC50AA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50E2-2CB7-4F9A-B1C6-4131D945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AB9B-B1B1-4731-85D1-0FDFC3C2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46A-4C99-4249-9EEF-8B160A91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6CF-0F66-48B7-925C-DA8C7570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0DE-889D-4664-A505-124C2CAD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BCB-3978-46DA-AC81-83C92CE8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B4FF-513B-4D0C-B94B-974B4A78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D27C-6E0B-4327-8894-C9CB8A68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9BD-E30A-4620-AAF6-B2ECAC55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A13-AF13-44C2-8549-748415AE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94B05-50F9-42A2-BB9F-E9CDCAC90A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