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63119"/>
        <c:axId val="22430499"/>
      </c:barChart>
      <c:catAx>
        <c:axId val="40263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30499"/>
        <c:crosses val="autoZero"/>
        <c:auto val="1"/>
        <c:lblAlgn val="ctr"/>
        <c:lblOffset val="100"/>
        <c:noMultiLvlLbl val="0"/>
      </c:catAx>
      <c:valAx>
        <c:axId val="22430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63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BC0-5962-4F35-895F-688FD40E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84D-284B-4B15-A1A3-E61CD1D3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E0C-CB6C-4611-8D6A-AB076F4F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DF8-2E5C-472B-A2A8-96C94E20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E7A-A4E8-4C3D-9F06-3F7838D2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729-513C-4DCF-81AE-83AD2F5C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607-3ADC-4938-A7FB-2691C788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3AA-CD68-4192-AE47-F8332C0F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DF0-1165-4CE5-B37B-9641FC9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3B0-F56B-479F-9451-A860724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43B-01B3-4520-AFF0-DF8692D9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9C0-3CEA-4633-92CA-A57346C2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FB738-9426-4BD3-BB1F-37FD81CA8C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