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59614"/>
        <c:axId val="67932748"/>
      </c:barChart>
      <c:catAx>
        <c:axId val="3635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2748"/>
        <c:crosses val="autoZero"/>
        <c:auto val="1"/>
        <c:lblAlgn val="ctr"/>
        <c:lblOffset val="100"/>
        <c:noMultiLvlLbl val="0"/>
      </c:catAx>
      <c:valAx>
        <c:axId val="67932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E64-33AB-452E-A037-3915E58B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B4C-167F-4427-A56E-A3EA988C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F37-AE72-4711-8C11-74899192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B1E-2E42-4772-8FD4-0D997855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D61-D9CB-46B3-95D7-232EFFC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08B-7327-4820-9D2B-0EEEC3A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A90-FE0F-4CAD-B918-A63461C8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877-6A3E-49BC-8F6A-7C5B935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ED9-A58D-46E3-93F3-BE1067F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8F6-5004-4238-82BE-80A0E02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220-176E-4B3F-85CF-F03342F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6DF-5897-4656-A00D-F573550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12220-485E-473B-9CA1-93319D806C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