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325251"/>
        <c:axId val="8089753"/>
      </c:barChart>
      <c:catAx>
        <c:axId val="393252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9753"/>
        <c:crosses val="autoZero"/>
        <c:auto val="1"/>
        <c:lblAlgn val="ctr"/>
        <c:lblOffset val="100"/>
        <c:noMultiLvlLbl val="0"/>
      </c:catAx>
      <c:valAx>
        <c:axId val="80897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252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DC48-9021-4D60-9D1B-9A4701AF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2B45-345C-4227-B337-5B366D15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53AF-8C29-44C3-B676-646302E1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7E90-57BA-4863-B2FC-CDAE7B13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326D-95B8-42A8-A98E-D57B0E50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CADD-C41D-4284-895D-FC9753B3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39C6-7687-4541-9894-B219F693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1105-02D9-483C-8933-7ECB22E1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CC68-0BDF-4DED-8070-0D8438B2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6F46-6272-4A15-8556-1ABA9C73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3B2C-DE89-46EA-BF67-F808CF28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859E-F955-4E96-9D9A-D2D64BCB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3ABCC-002F-4DE0-B3AB-23DB0B8D99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