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05541"/>
        <c:axId val="35840191"/>
      </c:barChart>
      <c:catAx>
        <c:axId val="32505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40191"/>
        <c:crosses val="autoZero"/>
        <c:auto val="1"/>
        <c:lblAlgn val="ctr"/>
        <c:lblOffset val="100"/>
        <c:noMultiLvlLbl val="0"/>
      </c:catAx>
      <c:valAx>
        <c:axId val="35840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5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BDA-B9AC-4C3B-BB0D-7B8B42D5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3E6-C345-4534-A7C4-EA56348D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6AE-CCF0-43A9-AA69-50232DEE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44E-13D1-4F10-8EDF-6FBB63BE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C4F-9F24-433F-9247-7D90DE40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514-495E-4273-BA30-4781EE4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701-8304-40A1-A921-0F27C538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956-ABE6-4CAB-BD4B-3E88DAD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962-3DA8-49AE-9D93-F365B95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E4A-590B-4BEB-949E-08AF014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C27-1D4E-4F68-B7FD-E2293E3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0D5-373E-42AD-8389-2070D3F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48610-997C-42CB-877A-C1E5717257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