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142234"/>
        <c:axId val="16498082"/>
      </c:barChart>
      <c:catAx>
        <c:axId val="691422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498082"/>
        <c:crosses val="autoZero"/>
        <c:auto val="1"/>
        <c:lblAlgn val="ctr"/>
        <c:lblOffset val="100"/>
        <c:noMultiLvlLbl val="0"/>
      </c:catAx>
      <c:valAx>
        <c:axId val="164980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1422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CC06-35AB-41A2-B15F-4E2C934B5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DB90-F44F-4BA3-B2F5-C3F092B6E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A1CD-6C9F-4691-B755-4DC8492AC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7440-842A-4064-9ED5-82FE4FBFB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9DD9-7FBC-4725-AB2C-091F6EA6E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7307-5FB6-4364-9696-A0CF9B2AF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2B23-25F3-4B5E-A3C2-E66F0892C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F2FA-2262-40F2-994C-14085AB2B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69C0-E91D-413D-AE70-23077ADAF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B013-B9BD-40F3-AFB6-B397AD89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8F38-E837-46B1-A647-A1FE6B9B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24E8-3A89-4857-B9CA-5A8230D4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9E41CF-3B3E-4309-B266-ED1AC19FD1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