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83134"/>
        <c:axId val="84266098"/>
      </c:barChart>
      <c:catAx>
        <c:axId val="3148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6098"/>
        <c:crosses val="autoZero"/>
        <c:auto val="1"/>
        <c:lblAlgn val="ctr"/>
        <c:lblOffset val="100"/>
        <c:noMultiLvlLbl val="0"/>
      </c:catAx>
      <c:valAx>
        <c:axId val="84266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8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B04-F7EA-4898-9042-3012627E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C26-0C9F-4A27-991E-1BF92B7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ABB-A98D-4E34-AA97-56FD0083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AD4-9A8F-4A03-AC05-C522A74D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3B4-39D4-486F-A8F4-F142657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713-79D2-4BB0-A5AF-C688F541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142-3017-4A4C-9CA6-88F75DE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998-37F3-4021-871C-D679DE9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69D-E453-44B4-A460-CF55F18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C0B-44C7-44A2-BDD0-099FFA0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122-1738-438E-8167-1F424AB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809-32AB-4433-A15A-7394D08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86D8-DA6A-4A17-9B50-DF4F36B8DF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