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4043"/>
        <c:axId val="62449718"/>
      </c:barChart>
      <c:catAx>
        <c:axId val="3054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49718"/>
        <c:crosses val="autoZero"/>
        <c:auto val="1"/>
        <c:lblAlgn val="ctr"/>
        <c:lblOffset val="100"/>
        <c:noMultiLvlLbl val="0"/>
      </c:catAx>
      <c:valAx>
        <c:axId val="62449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4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D51-E63E-464C-8E5B-FBFE294D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4C6-C3E0-48A1-B560-90AF3A8F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3F3-4522-433F-B099-DD1EFE16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5A7-61CB-4E06-9C7E-BFFBF61F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792-711A-4D40-ABAD-F30AADD3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6D8-9AEB-47E8-A894-ADD6C328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5B8-63B0-45CE-8870-8A93A370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48A-1667-4CF6-9C76-844D9E8C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4D3-66FA-47EB-BA80-149C3632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77D-EC58-4946-9235-EBF1632C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0E9-A5BD-491E-8338-7BFC241E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75C-F4E9-45D6-8B38-B9EE00FE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9D036-568B-486F-B7B7-7BD3B4F003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