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57868"/>
        <c:axId val="16121506"/>
      </c:barChart>
      <c:catAx>
        <c:axId val="17857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21506"/>
        <c:crosses val="autoZero"/>
        <c:auto val="1"/>
        <c:lblAlgn val="ctr"/>
        <c:lblOffset val="100"/>
        <c:noMultiLvlLbl val="0"/>
      </c:catAx>
      <c:valAx>
        <c:axId val="16121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7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E53-3C15-4E0A-B64A-57671F19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4FD-2855-4B17-B109-0D3577BA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763-C619-4714-B57C-E5AE8866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767-9C7F-4D83-B706-B595A9FF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D2E-B739-4B0B-B506-DD9F220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3FD-0BEB-4385-A07F-16D73A2D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853-ED41-4DCF-B67C-A62F727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6AE-C2AC-4730-8096-371D70F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747-9F23-4D3B-8A73-C1CE1A9A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23D-DCB1-4B8D-90E1-37D589D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6B6-A583-40E8-8E01-46810DA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597-D5AB-4E07-8D43-32CEA21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CD6E-EAE1-45EE-87E9-DEA8AC568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