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35970"/>
        <c:axId val="68119272"/>
      </c:barChart>
      <c:catAx>
        <c:axId val="82135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19272"/>
        <c:crosses val="autoZero"/>
        <c:auto val="1"/>
        <c:lblAlgn val="ctr"/>
        <c:lblOffset val="100"/>
        <c:noMultiLvlLbl val="0"/>
      </c:catAx>
      <c:valAx>
        <c:axId val="68119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35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2D3-037F-45FB-AE3D-D237E87E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1B2-AAFF-4D39-908D-21D390A4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B1C-9578-4CE3-A3F4-C9D26FC2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2A0-09FC-47CE-9553-23BEC541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C27-EE10-48AF-874C-2AB344B8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F80-28AB-4347-B83A-629A2FB0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31F-3AB9-4F65-B5B5-D75E5712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751-84D7-4AC0-B1B2-98AD881C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FAC-0A02-43EE-BE4D-A4D28DE8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B5C-B795-4828-A8F7-59E23404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E35-DD59-4AF2-B09D-07D21EF1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BE2-675F-4E4D-8CEA-4B1CA295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25DBF-74B5-476E-8FE9-D8FCCD4546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