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6200361"/>
        <c:axId val="73677214"/>
      </c:barChart>
      <c:catAx>
        <c:axId val="1620036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677214"/>
        <c:crosses val="autoZero"/>
        <c:auto val="1"/>
        <c:lblAlgn val="ctr"/>
        <c:lblOffset val="100"/>
        <c:noMultiLvlLbl val="0"/>
      </c:catAx>
      <c:valAx>
        <c:axId val="7367721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20036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C134-DFA0-446C-83A2-2EA8F9576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A70B-9D52-4D9F-B0B0-DC688EE0E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2672-C218-4A19-BD95-B93AE1754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EDD3-0C42-4C01-8D44-249E510A3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E7DC-2AEE-4634-8E32-7E1FD1832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9D72-347F-4106-8EAB-4AC972847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E975-25FF-471F-9AB7-945567874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FBA6-ED6A-4E3F-A6D5-151A9B401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4880-6D0B-415C-8781-DBCF959E3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E183-2100-4166-8C68-12818952B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8E87-4607-4AEA-BE67-87121F72E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743A-25B4-4267-B545-D78BDF471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3BC8A5-8AE5-4960-AF1C-1938E996531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